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E40D-B102-4DFE-9CAF-BB817A2A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F5B6-E65C-4AEC-88AD-A08D2FE0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BD7-6B76-4283-A79D-A154E1D90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10F-BE46-4688-BA12-49BFAF42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F72A-8474-4C4B-8F34-336F6A05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05E5-7564-4E77-9390-526C97E7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682E-BC16-456C-A2BF-07AAECEE2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33DB-51BF-4782-9986-178C60AE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4785-7775-439D-BD08-F80FBB76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F460-A468-4F32-8A2C-893F86BA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7831-8EB8-4D47-9A93-D9F9F6AF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9B0E-D05E-444E-91D4-73A533A5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61A9-0F66-40B4-9F7F-CB1504AF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599E-2560-4E2C-8740-D65F213D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EA29-0DDA-40E2-BBC3-29EB11D8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E382-5EFF-4B79-8790-A667118B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9663-F864-4BE9-8A41-9E479AE0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F6DC-346E-4FC2-ADA3-612FE35A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EA0E-4539-4F09-A3A7-BBA8F132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328-D9BD-47BA-894F-D38ED91B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6AF-0C95-459B-8852-415683AF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D3A-673F-471F-A5A4-77DB03D2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13F-82C3-460D-B4E2-806ED7E0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BE6-D363-448E-9DD3-3BF9CC16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BD4C-C719-4354-A9CC-647AFD9689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82B7-A5C3-49AF-92E5-E970CB98C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.wikipedia.org/wiki/9_august" TargetMode="External"/><Relationship Id="rId3" Type="http://schemas.openxmlformats.org/officeDocument/2006/relationships/hyperlink" Target="http://ro.wikipedia.org/wiki/1601" TargetMode="External"/><Relationship Id="rId4" Type="http://schemas.openxmlformats.org/officeDocument/2006/relationships/hyperlink" Target="http://ro.wikipedia.org/wiki/Turda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www.google.ro/imgres?imgurl=http://fs.destinatiituristice.ro/c883c4100aee83fa8b317f61b77995f4.jpg&amp;imgrefurl=http://www.destinatiituristice.ro/article/14501/Mormantul-lui-Mihai-Viteazul&amp;usg=__8MMe7DG5r-RZKXJFSiXw3BltoXI=&amp;h=436&amp;w=500&amp;sz=95&amp;hl=ro&amp;start=6&amp;zoom=1&amp;itbs=1&amp;tbnid=m0DUCDzIxXa39M:&amp;tbnh=113&amp;tbnw=130&amp;prev=/images%3Fq%3Dmonumentul%2Blui%2Bmihai%2Bviteazul%2Bturda%26hl%3Dro%26sa%3DG%26gbv%3D2%26tbs%3Disch:1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ro.wikipedia.org/wiki/1558" TargetMode="External"/><Relationship Id="rId9" Type="http://schemas.openxmlformats.org/officeDocument/2006/relationships/hyperlink" Target="http://ro.wikipedia.org/wiki/T&#226;rgul_de_Floci" TargetMode="External"/><Relationship Id="rId10" Type="http://schemas.openxmlformats.org/officeDocument/2006/relationships/hyperlink" Target="http://ro.wikipedia.org/wiki/T&#226;rgul_de_Floci" TargetMode="External"/><Relationship Id="rId11" Type="http://schemas.openxmlformats.org/officeDocument/2006/relationships/hyperlink" Target="http://ro.wikipedia.org/wiki/T&#226;rgul_de_Floci" TargetMode="Externa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MIHAI VITEAZUL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040" y="3123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: Pasca Ion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ala: ,, Simion Balint” Copaceni, jud. Clu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a : a IV-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562720" y="1371600"/>
            <a:ext cx="2014560" cy="21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2819520"/>
            <a:ext cx="7318440" cy="23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 miseleste in 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9 aug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16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Tur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lu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600200" y="457200"/>
            <a:ext cx="2014560" cy="2190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34120" y="3733920"/>
            <a:ext cx="3200400" cy="2781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33920" y="1219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scut in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155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Târgul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 de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11"/>
              </a:rPr>
              <a:t>Floc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alomi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3962520"/>
            <a:ext cx="80805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urtat razboaie cu turci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usit ceea ce nici un alt domnitor roman nu izbutise pana atunci: unirea celor trei tari romane pe o perioada de 1 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8120" y="304920"/>
            <a:ext cx="4429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Cine e Mihai Viteazul din lectura pe care am citit-o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243504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a Hasan, de G. Cosbu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viteaz,curajos, demn, priceput si cu spirit de sacrifici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43:03Z</dcterms:created>
  <dc:creator>rodinaloredana</dc:creator>
  <dc:description/>
  <dc:language>en-US</dc:language>
  <cp:lastModifiedBy>rodinaloredana</cp:lastModifiedBy>
  <dcterms:modified xsi:type="dcterms:W3CDTF">2010-08-25T12:30:51Z</dcterms:modified>
  <cp:revision>6</cp:revision>
  <dc:subject/>
  <dc:title>MIHAI VITEAZU</dc:title>
</cp:coreProperties>
</file>